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23C-C4D6-4DB2-A7AD-13ED973A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5D7-2FE8-4299-9934-CA8E5E4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CF9-6CDD-4AEA-B140-A9A8D0C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37E-23D5-475A-92F4-51E0C99D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2F5-96B8-4E85-A9AF-C5C80A4F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E67-460C-4E4A-9FA2-158E80F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BD4-D9B6-49CD-8972-852AD0B2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6DC-8413-432D-8F85-B84824B2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D3E-EB93-4697-803D-ABAFEF4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672-496E-425B-9EA5-4E928094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F17-E155-455C-8C3E-80DC3D5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176-4AEF-4102-9968-D3690BBC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A8E-AC8F-4AF9-A10A-4A339892C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871560" y="1542960"/>
            <a:ext cx="7699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сновании второго закона Ньютона можем за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40984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124080" y="4876920"/>
            <a:ext cx="2376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вместное решение равенств (1) и (2) относительно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да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ставляя сюда значения постоянный и производя вычисления, найдём боровский ради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16216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43369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з равенства (1) получим выражение скорости электрона на этой орб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изводя вычисления по этой формуле, найд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149040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3976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дро нептуния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хватило  электрон из К-оболочки атома (К-захват) и испустило альфа-частицу. Ядро какого элемента получилось в результате этих превраще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800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К-захвате из ближайшей к ядру электронной оболочки (К-оболочки) атома электрон захватывается ядром. В результате этого протон в ядре превращается в нейтрон. Общее число нуклонов в ядре не изменяется, а зарядовое число уменьшится на единицу. Поэтому промежуточное ядро будет иметь зарядовое число 93-1=92; массовое число останется прежним – 234. По таблице Менделеева определяем, что промежуточным ядром является изотоп уран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572000" y="5562720"/>
            <a:ext cx="6192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омежуточное ядро испустило альфа-частицу. Так как альфа-частца (ядро атома изотопа гелия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) содержит два протона и два нейтрона, то промежуточное ядро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 акте испускания альфа-частицы уменьшит зарядовое число на две единицы и массовое число на четыре единицы. Таким образом, конечное ядро будет иметь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 Z=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90 и А=230, что соответствует изотопу тория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23800" cy="419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133720" y="5486400"/>
            <a:ext cx="752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энергию фотона, соответствующего второй линии в первой инфракрасной серии (серии Пашена)атома водоро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числить радиусы второй и третьей орбит атома 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пределить напряжение, под которым работает рентгеновская трубка, если коротковолновая граница в спектре тормозного излучения оказалась равной 15,5 п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нейные размеры атома, определяемы его электронной оболочкой, порядка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Monotype Corsiva"/>
              </a:rPr>
              <a:t>-10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Monotype Corsiva"/>
              </a:rPr>
              <a:t>-9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м, а ядра - ~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Monotype Corsiva"/>
              </a:rPr>
              <a:t>-15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м. Т.о., размеры атома в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раз больше, чем его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чти вся масса атома (≈99,95%) сосредоточена в ядре атома, т.к. оно состоит из протонов и нейтронов, масса которых во много раз больше массы электрона, из которых построена оболочка ат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том состоит из положительно заряженного ядра и отрицательно заряженных электро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 состав атомного ядра входят положительно заряженные протоны и нейтральные нейтро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аряд атома в нормальном состоянии равен нул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Число электронов в нейтральном атоме равно числу прото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Атом превращается в ион, если он приобретает или теряет один или несколько электронов электронной оболоч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Ионы бывают положительными, когда число электронов меньше числа протонов, и отрицательными, когда число электронов больше числа протон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етарная модель атома была предложена в 1911 г английским физиком Э. Резерфор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 предположению Резерфорда электроны в атоме вращаются вокруг ядра подобно тому, как планеты солнечной системы вращаются вокруг Солнца, поэтому такая модель была названа планетар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лектрон был открыт Томсоном в 1897г, протон – Резерфордом в 1911 , нейтрон – Чедвиком в 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улаты 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й постулат: Атом и всякая атомная система может находиться в избранных состояниях, в которых она не излучает. Такие состояния называются стационарн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торой постулат: При переходе атома из состояния с более высокой энергией в состояние с более низкой энергий, атом испускает квант света с частотой, равной разности энергий этих состояний, делённая на постоянную пла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форм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вантование момента импу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нергия стационарных состояний атома водорода по теории Б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диус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ой боровской орбиты электрона в атоме водор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371760" y="1752480"/>
            <a:ext cx="1886040" cy="409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3200400" y="3429000"/>
                <a:ext cx="201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3581280" y="5240160"/>
                <a:ext cx="15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ычислить радиус первой орбиты атома водорода (боровский радиус) и скорость электрона на этой орби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гласно теории Бора, радиус электронной орбиты и скорость электрона на ней связаны равен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 как в задаче требуется определить величины, относящиеся к первой орбите, то главное квантовое число </a:t>
            </a:r>
            <a:r>
              <a:rPr b="0" lang="en-GB" sz="32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=1 и указанное равенство приобретает в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104920" cy="45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733920" y="5486400"/>
            <a:ext cx="148896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ешения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определения двух неизвестных величин (скорости и радиуса) необходимо ещё одно уравнение. В качестве второго уравнения воспользуемся уравнением движения электрона. Согласно теории Бора, электрон вращается вокруг ядра. При этом сила взаимодействия между электрическими зарядами ядра и электрона сообщает электрону центростремительное ускор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Михаил</cp:lastModifiedBy>
  <dcterms:modified xsi:type="dcterms:W3CDTF">2010-10-17T20:03:19Z</dcterms:modified>
  <cp:revision>10</cp:revision>
  <dc:subject/>
  <dc:title>Слайд 1</dc:title>
</cp:coreProperties>
</file>